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jpeg" ContentType="image/jpeg"/>
  <Override PartName="/ppt/media/image13.wmf" ContentType="image/x-wmf"/>
  <Override PartName="/ppt/media/image5.png" ContentType="image/png"/>
  <Override PartName="/ppt/media/image8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4.jpeg" ContentType="image/jpeg"/>
  <Override PartName="/ppt/media/image2.jpeg" ContentType="image/jpeg"/>
  <Override PartName="/ppt/media/image3.png" ContentType="image/png"/>
  <Override PartName="/ppt/media/image14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6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7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BCA2-98FA-4E44-802C-5BDD86F83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size gene (transcription unit) =  8000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size primary transcript = 8000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size mature RNA = 1200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size protein = 400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“junk DN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rong evidence for a single origin in evolutionary theor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E362F-67A2-43D6-BDBA-EBD4594137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23F78-C5B1-461F-9C62-683686BC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85B61-3F75-4972-8C60-6156FD53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4D3B5-0C0A-4FF1-8A78-F23E73F4A6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75846-1D94-4342-A152-F4371F68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2726A-2CAD-4338-B8D3-80685B4C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3A754-4647-4C43-82A6-3F0E360C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0B557-1E66-49B2-B95B-32DBEF47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B116D-8EA9-4AB8-8EDA-E5B51608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E2CD2-D0EC-4B53-8941-976377FA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3F82D-CDA8-4911-9D80-4CB782A9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62EF1-428E-4DB1-88A7-4A21023E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AF95-4B59-459F-B971-5DEA4B04CCC5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2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6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46102" t="0" r="7546" b="4542"/>
          <a:stretch/>
        </p:blipFill>
        <p:spPr>
          <a:xfrm>
            <a:off x="228600" y="2743200"/>
            <a:ext cx="3473280" cy="39625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hapter  17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rcRect l="0" t="2252" r="0" b="0"/>
          <a:stretch/>
        </p:blipFill>
        <p:spPr>
          <a:xfrm>
            <a:off x="4599000" y="457200"/>
            <a:ext cx="4545000" cy="3332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412240" y="4266720"/>
            <a:ext cx="23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utation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D3CB-73F8-4DCE-9179-D0ABA1223BE3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rcRect l="0" t="0" r="0" b="6039"/>
          <a:stretch/>
        </p:blipFill>
        <p:spPr>
          <a:xfrm>
            <a:off x="609480" y="3276720"/>
            <a:ext cx="8153640" cy="34383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rimary transcrip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rocessing mRNA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rotecting RNA from RNase in cytoplasm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dd 5’ cap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dd polyA tai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remove intron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16400" y="57906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AUG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4520" y="57906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UG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C85F-35A3-4C17-8D7A-DC6205652C0D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2280" y="4648320"/>
            <a:ext cx="8839440" cy="16840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rotecting RN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f11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5’ cap added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G trinucleoside (G-P-P-P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rotects mRNA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rom RNase (hydrolytic enzymes)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f11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3’ poly-A tail added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50-250 A’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rotects mRNA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rom RNase (hydrolytic enzymes)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helps export of RNA from nucleu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49680" y="51807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T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9600" y="51807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T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32E7-CA14-4BB5-8721-9C766109BC7B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6880" y="6292800"/>
            <a:ext cx="3429000" cy="337320"/>
          </a:xfrm>
          <a:prstGeom prst="rect">
            <a:avLst/>
          </a:prstGeom>
          <a:solidFill>
            <a:srgbClr val="e98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TR</a:t>
            </a: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ntranslated Reg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cing &amp; splicing mRN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647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re-mRNA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mRNA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dit out 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intr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ntervening sequenc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plice together 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ex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xpressed sequenc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 higher eukaryot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90% or more of gene can be intr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o one knows why…yet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re’s a Nobel prize waiting…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019920" y="1905120"/>
            <a:ext cx="3124080" cy="4952880"/>
            <a:chOff x="6019920" y="1905120"/>
            <a:chExt cx="3124080" cy="49528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7869240" y="5562720"/>
              <a:ext cx="12747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6019920" y="1905120"/>
              <a:ext cx="2971800" cy="2128680"/>
            </a:xfrm>
            <a:prstGeom prst="wedgeEllipseCallout">
              <a:avLst>
                <a:gd name="adj1" fmla="val 21421"/>
                <a:gd name="adj2" fmla="val 131504"/>
              </a:avLst>
            </a:prstGeom>
            <a:solidFill>
              <a:srgbClr val="ffea18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“</a:t>
              </a: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AVERAGE”…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“</a:t>
              </a: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gene” = 8000b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pre-mRNA = 8000b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mature mRNA = 1200b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protein = 400aa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lotsa “JUNK”!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scovery of Split gen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08520" y="380160"/>
            <a:ext cx="2456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1977 </a:t>
            </a:r>
            <a:r>
              <a:rPr b="1" lang="en-US" sz="3400" spc="-1" strike="noStrike">
                <a:solidFill>
                  <a:srgbClr val="000005"/>
                </a:solidFill>
                <a:latin typeface="Arial"/>
                <a:ea typeface="ＭＳ Ｐゴシック"/>
              </a:rPr>
              <a:t>| 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1993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19920" y="5670720"/>
            <a:ext cx="2666880" cy="1035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715000" y="1219320"/>
            <a:ext cx="3117960" cy="32004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804960" y="1828800"/>
            <a:ext cx="1904760" cy="2324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3200400" y="1828800"/>
            <a:ext cx="1905120" cy="23493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77520" y="426636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Richard Robert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22440" y="426636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hilip Shar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59040" y="464724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NE BioLab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46240" y="464724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MI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72680" y="432648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adenoviru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27240" y="470772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common col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7124040" y="5219640"/>
            <a:ext cx="609840" cy="533160"/>
          </a:xfrm>
          <a:custGeom>
            <a:avLst/>
            <a:gdLst>
              <a:gd name="textAreaLeft" fmla="*/ 95040 w 609840"/>
              <a:gd name="textAreaRight" fmla="*/ 533880 w 60984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5446-4345-4610-865F-5432EE96AC8F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0" t="0" r="3179" b="0"/>
          <a:stretch/>
        </p:blipFill>
        <p:spPr>
          <a:xfrm>
            <a:off x="4222800" y="380880"/>
            <a:ext cx="4763880" cy="63118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4191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snRNP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mall Nuclear Ribinucleoproteins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small nuclear RNA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+ proteins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Spliceosom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ral snRNPs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recognize splice site sequence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cut &amp; paste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RNA as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ribozym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some mRNA can splice itself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RNA as enzyme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plicing enzym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2F9D-56FF-4B99-A119-D37D11428DE1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ibozym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NA as enzym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066680" y="1768320"/>
            <a:ext cx="6553440" cy="898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85800" y="2743200"/>
            <a:ext cx="3733920" cy="27748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3880" y="559980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idney Altma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70040" y="559980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Thomas Cec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09960" y="380160"/>
            <a:ext cx="2456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1982 </a:t>
            </a:r>
            <a:r>
              <a:rPr b="1" lang="en-US" sz="3400" spc="-1" strike="noStrike">
                <a:solidFill>
                  <a:srgbClr val="000005"/>
                </a:solidFill>
                <a:latin typeface="Arial"/>
                <a:ea typeface="ＭＳ Ｐゴシック"/>
              </a:rPr>
              <a:t>| 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1989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57040" y="59266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Yal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68600" y="5926680"/>
            <a:ext cx="186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U of Colorad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7A21-80C4-49A1-84AB-0CD78282C0C3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5105520" y="2514600"/>
            <a:ext cx="27716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plicing detail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o room for mistakes!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diting &amp; splicing must be exactly accurat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 single base added or lost throws off the 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reading fra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14400" y="3429000"/>
            <a:ext cx="8001000" cy="160020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30240" y="4164840"/>
            <a:ext cx="59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UG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C</a:t>
            </a:r>
            <a:r>
              <a:rPr b="1" lang="en-US" sz="2800" spc="-1" strike="noStrike">
                <a:solidFill>
                  <a:srgbClr val="0f116a"/>
                </a:solidFill>
                <a:latin typeface="Courier New"/>
              </a:rPr>
              <a:t>GG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UCC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GAU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AG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GGC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CAU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37080" y="3351960"/>
            <a:ext cx="61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UGC</a:t>
            </a:r>
            <a:r>
              <a:rPr b="1" lang="en-US" sz="2800" spc="-1" strike="noStrike">
                <a:solidFill>
                  <a:srgbClr val="0f116a"/>
                </a:solidFill>
                <a:latin typeface="Courier New"/>
              </a:rPr>
              <a:t>G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GCTATGG</a:t>
            </a:r>
            <a:r>
              <a:rPr b="1" lang="en-US" sz="2800" spc="-1" strike="noStrike">
                <a:solidFill>
                  <a:srgbClr val="0f116a"/>
                </a:solidFill>
                <a:latin typeface="Courier New"/>
              </a:rPr>
              <a:t>G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UCCGAUAAGGGCCAU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83360" y="375840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UGC</a:t>
            </a:r>
            <a:r>
              <a:rPr b="1" lang="en-US" sz="2800" spc="-1" strike="noStrike">
                <a:solidFill>
                  <a:srgbClr val="0f116a"/>
                </a:solidFill>
                <a:latin typeface="Courier New"/>
              </a:rPr>
              <a:t>GG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UCCGAUAAGGGCCAU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5105520"/>
            <a:ext cx="8001000" cy="1676160"/>
          </a:xfrm>
          <a:prstGeom prst="rect">
            <a:avLst/>
          </a:pr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30240" y="5917320"/>
            <a:ext cx="63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UG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C</a:t>
            </a:r>
            <a:r>
              <a:rPr b="1" lang="en-US" sz="2800" spc="-1" strike="noStrike">
                <a:solidFill>
                  <a:srgbClr val="0f116a"/>
                </a:solidFill>
                <a:latin typeface="Courier New"/>
              </a:rPr>
              <a:t>G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G|</a:t>
            </a:r>
            <a:r>
              <a:rPr b="1" lang="en-US" sz="2800" spc="-1" strike="noStrike">
                <a:solidFill>
                  <a:srgbClr val="0f116a"/>
                </a:solidFill>
                <a:latin typeface="Courier New"/>
              </a:rPr>
              <a:t>G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UC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CGA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UAA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GGG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CCA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U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37080" y="5104800"/>
            <a:ext cx="61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UGC</a:t>
            </a:r>
            <a:r>
              <a:rPr b="1" lang="en-US" sz="2800" spc="-1" strike="noStrike">
                <a:solidFill>
                  <a:srgbClr val="0f116a"/>
                </a:solidFill>
                <a:latin typeface="Courier New"/>
              </a:rPr>
              <a:t>G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GCTATGG</a:t>
            </a:r>
            <a:r>
              <a:rPr b="1" lang="en-US" sz="2800" spc="-1" strike="noStrike">
                <a:solidFill>
                  <a:srgbClr val="0f116a"/>
                </a:solidFill>
                <a:latin typeface="Courier New"/>
              </a:rPr>
              <a:t>G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UCCGAUAAGGGCCAU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76440" y="5511240"/>
            <a:ext cx="487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UGC</a:t>
            </a:r>
            <a:r>
              <a:rPr b="1" lang="en-US" sz="2800" spc="-1" strike="noStrike">
                <a:solidFill>
                  <a:srgbClr val="0f116a"/>
                </a:solidFill>
                <a:latin typeface="Courier New"/>
              </a:rPr>
              <a:t>G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G</a:t>
            </a:r>
            <a:r>
              <a:rPr b="1" lang="en-US" sz="2800" spc="-1" strike="noStrike">
                <a:solidFill>
                  <a:srgbClr val="0f116a"/>
                </a:solidFill>
                <a:latin typeface="Courier New"/>
              </a:rPr>
              <a:t>G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UCCGAUAAGGGCCAU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30240" y="4571280"/>
            <a:ext cx="59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00"/>
                </a:solidFill>
                <a:latin typeface="Courier New"/>
              </a:rPr>
              <a:t>Met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660000"/>
                </a:solidFill>
                <a:latin typeface="Courier New"/>
              </a:rPr>
              <a:t>Arg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660000"/>
                </a:solidFill>
                <a:latin typeface="Courier New"/>
              </a:rPr>
              <a:t>Ser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660000"/>
                </a:solidFill>
                <a:latin typeface="Courier New"/>
              </a:rPr>
              <a:t>Asp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660000"/>
                </a:solidFill>
                <a:latin typeface="Courier New"/>
              </a:rPr>
              <a:t>Lys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660000"/>
                </a:solidFill>
                <a:latin typeface="Courier New"/>
              </a:rPr>
              <a:t>Gly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660000"/>
                </a:solidFill>
                <a:latin typeface="Courier New"/>
              </a:rPr>
              <a:t>Hi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30600" y="6323760"/>
            <a:ext cx="46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00"/>
                </a:solidFill>
                <a:latin typeface="Courier New"/>
              </a:rPr>
              <a:t>Met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660000"/>
                </a:solidFill>
                <a:latin typeface="Courier New"/>
              </a:rPr>
              <a:t>Arg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660000"/>
                </a:solidFill>
                <a:latin typeface="Courier New"/>
              </a:rPr>
              <a:t>Val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660000"/>
                </a:solidFill>
                <a:latin typeface="Courier New"/>
              </a:rPr>
              <a:t>Arg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660000"/>
                </a:solidFill>
                <a:latin typeface="Courier New"/>
              </a:rPr>
              <a:t>STOP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55AB-086E-4D97-962C-43B38148DB47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lternative splicing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4111"/>
          <a:stretch/>
        </p:blipFill>
        <p:spPr>
          <a:xfrm>
            <a:off x="2590920" y="2678040"/>
            <a:ext cx="6553080" cy="41227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f11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lternative mRNAs produced from same gen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when is an intron not an intron…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different segments treated as exon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-360" y="3809880"/>
            <a:ext cx="2362320" cy="3048120"/>
            <a:chOff x="-360" y="3809880"/>
            <a:chExt cx="2362320" cy="3048120"/>
          </a:xfrm>
        </p:grpSpPr>
        <p:pic>
          <p:nvPicPr>
            <p:cNvPr id="204" name="" descr=""/>
            <p:cNvPicPr/>
            <p:nvPr/>
          </p:nvPicPr>
          <p:blipFill>
            <a:blip r:embed="rId2"/>
            <a:stretch/>
          </p:blipFill>
          <p:spPr>
            <a:xfrm flipH="1">
              <a:off x="-360" y="5562720"/>
              <a:ext cx="12747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 flipH="1">
              <a:off x="608760" y="3809880"/>
              <a:ext cx="1752840" cy="1214640"/>
            </a:xfrm>
            <a:prstGeom prst="wedgeEllipseCallout">
              <a:avLst>
                <a:gd name="adj1" fmla="val 28347"/>
                <a:gd name="adj2" fmla="val 99671"/>
              </a:avLst>
            </a:prstGeom>
            <a:solidFill>
              <a:srgbClr val="ffea18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Hard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to define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a gene!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AA2F-ACB8-41B5-9B2C-199032F62F02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main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4419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Modular architecture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f many protein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eparate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functional &amp;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tructural region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oded by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different exons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in same “gene”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275000" y="1886040"/>
            <a:ext cx="4869000" cy="48196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F730-FEFA-4DA3-A5D2-82C82D9335A2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705720" y="6477120"/>
            <a:ext cx="1447560" cy="2286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AAAAAAA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6477120"/>
            <a:ext cx="457200" cy="2286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GTP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164240" y="1751760"/>
            <a:ext cx="903240" cy="1067760"/>
            <a:chOff x="1164240" y="1751760"/>
            <a:chExt cx="903240" cy="1067760"/>
          </a:xfrm>
        </p:grpSpPr>
        <p:sp>
          <p:nvSpPr>
            <p:cNvPr id="214" name=""/>
            <p:cNvSpPr/>
            <p:nvPr/>
          </p:nvSpPr>
          <p:spPr>
            <a:xfrm>
              <a:off x="1403280" y="2057400"/>
              <a:ext cx="0" cy="76212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64240" y="175176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20-30b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82440" y="23616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3'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92240" y="2895480"/>
            <a:ext cx="1406160" cy="1495080"/>
            <a:chOff x="192240" y="2895480"/>
            <a:chExt cx="1406160" cy="1495080"/>
          </a:xfrm>
        </p:grpSpPr>
        <p:sp>
          <p:nvSpPr>
            <p:cNvPr id="218" name=""/>
            <p:cNvSpPr/>
            <p:nvPr/>
          </p:nvSpPr>
          <p:spPr>
            <a:xfrm>
              <a:off x="762120" y="2895480"/>
              <a:ext cx="0" cy="11430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2240" y="3961440"/>
              <a:ext cx="1406160" cy="429120"/>
            </a:xfrm>
            <a:prstGeom prst="rect">
              <a:avLst/>
            </a:prstGeom>
            <a:solidFill>
              <a:srgbClr val="97c6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promoter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6707880" y="2819520"/>
            <a:ext cx="1887480" cy="1906200"/>
            <a:chOff x="6707880" y="2819520"/>
            <a:chExt cx="1887480" cy="1906200"/>
          </a:xfrm>
        </p:grpSpPr>
        <p:sp>
          <p:nvSpPr>
            <p:cNvPr id="221" name=""/>
            <p:cNvSpPr/>
            <p:nvPr/>
          </p:nvSpPr>
          <p:spPr>
            <a:xfrm>
              <a:off x="8458200" y="2819520"/>
              <a:ext cx="0" cy="121896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07880" y="3961440"/>
              <a:ext cx="1887480" cy="764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transcription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stop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755000" y="2819520"/>
            <a:ext cx="1887480" cy="1906200"/>
            <a:chOff x="1755000" y="2819520"/>
            <a:chExt cx="1887480" cy="1906200"/>
          </a:xfrm>
        </p:grpSpPr>
        <p:sp>
          <p:nvSpPr>
            <p:cNvPr id="224" name=""/>
            <p:cNvSpPr/>
            <p:nvPr/>
          </p:nvSpPr>
          <p:spPr>
            <a:xfrm>
              <a:off x="1828800" y="2819520"/>
              <a:ext cx="0" cy="121896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55000" y="3961440"/>
              <a:ext cx="1887480" cy="764280"/>
            </a:xfrm>
            <a:prstGeom prst="rect">
              <a:avLst/>
            </a:prstGeom>
            <a:solidFill>
              <a:srgbClr val="007f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transcription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124080" y="2819520"/>
            <a:ext cx="4343040" cy="1113840"/>
            <a:chOff x="3124080" y="2819520"/>
            <a:chExt cx="4343040" cy="1113840"/>
          </a:xfrm>
        </p:grpSpPr>
        <p:sp>
          <p:nvSpPr>
            <p:cNvPr id="227" name=""/>
            <p:cNvSpPr/>
            <p:nvPr/>
          </p:nvSpPr>
          <p:spPr>
            <a:xfrm>
              <a:off x="3124080" y="2819520"/>
              <a:ext cx="1752840" cy="76176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62520" y="2819520"/>
              <a:ext cx="990360" cy="6858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52880" y="2819520"/>
              <a:ext cx="152640" cy="6858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5257440" y="2819520"/>
              <a:ext cx="304920" cy="76176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5409720" y="2819520"/>
              <a:ext cx="1143000" cy="76176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5562360" y="2819520"/>
              <a:ext cx="1904760" cy="76176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40040" y="3504240"/>
              <a:ext cx="1127160" cy="429120"/>
            </a:xfrm>
            <a:prstGeom prst="rect">
              <a:avLst/>
            </a:prstGeom>
            <a:solidFill>
              <a:srgbClr val="00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introns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52280" y="2666880"/>
            <a:ext cx="8915400" cy="2286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2666880"/>
            <a:ext cx="6629400" cy="228600"/>
          </a:xfrm>
          <a:prstGeom prst="rect">
            <a:avLst/>
          </a:prstGeom>
          <a:solidFill>
            <a:srgbClr val="404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 Transcriptional unit (gene?)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2666880"/>
            <a:ext cx="609480" cy="228600"/>
          </a:xfrm>
          <a:prstGeom prst="rect">
            <a:avLst/>
          </a:prstGeom>
          <a:solidFill>
            <a:srgbClr val="97c6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229600" y="2666880"/>
            <a:ext cx="3049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00200" y="2666880"/>
            <a:ext cx="304920" cy="228600"/>
          </a:xfrm>
          <a:prstGeom prst="rect">
            <a:avLst/>
          </a:prstGeom>
          <a:solidFill>
            <a:srgbClr val="007f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971800" y="2666880"/>
            <a:ext cx="4572000" cy="228600"/>
            <a:chOff x="2971800" y="2666880"/>
            <a:chExt cx="4572000" cy="228600"/>
          </a:xfrm>
        </p:grpSpPr>
        <p:sp>
          <p:nvSpPr>
            <p:cNvPr id="241" name=""/>
            <p:cNvSpPr/>
            <p:nvPr/>
          </p:nvSpPr>
          <p:spPr>
            <a:xfrm>
              <a:off x="2971800" y="2666880"/>
              <a:ext cx="457200" cy="228600"/>
            </a:xfrm>
            <a:prstGeom prst="rect">
              <a:avLst/>
            </a:prstGeom>
            <a:solidFill>
              <a:srgbClr val="00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09880" y="2666880"/>
              <a:ext cx="304920" cy="228600"/>
            </a:xfrm>
            <a:prstGeom prst="rect">
              <a:avLst/>
            </a:prstGeom>
            <a:solidFill>
              <a:srgbClr val="00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00600" y="2666880"/>
              <a:ext cx="304920" cy="228600"/>
            </a:xfrm>
            <a:prstGeom prst="rect">
              <a:avLst/>
            </a:prstGeom>
            <a:solidFill>
              <a:srgbClr val="00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10080" y="2666880"/>
              <a:ext cx="457200" cy="228600"/>
            </a:xfrm>
            <a:prstGeom prst="rect">
              <a:avLst/>
            </a:prstGeom>
            <a:solidFill>
              <a:srgbClr val="00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238880" y="2666880"/>
              <a:ext cx="304920" cy="228600"/>
            </a:xfrm>
            <a:prstGeom prst="rect">
              <a:avLst/>
            </a:prstGeom>
            <a:solidFill>
              <a:srgbClr val="00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00800" y="2666880"/>
              <a:ext cx="457200" cy="228600"/>
            </a:xfrm>
            <a:prstGeom prst="rect">
              <a:avLst/>
            </a:prstGeom>
            <a:solidFill>
              <a:srgbClr val="00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2590920" y="2666880"/>
            <a:ext cx="152280" cy="228600"/>
          </a:xfrm>
          <a:prstGeom prst="rect">
            <a:avLst/>
          </a:prstGeom>
          <a:solidFill>
            <a:srgbClr val="00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96080" y="2666880"/>
            <a:ext cx="15264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4840" y="2208960"/>
            <a:ext cx="271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transcriptional unit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64120" y="23756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602"/>
                </a:solidFill>
                <a:latin typeface="Arial"/>
              </a:rPr>
              <a:t>TAC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469280" y="23756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AC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52280" y="3123360"/>
            <a:ext cx="8915400" cy="368280"/>
            <a:chOff x="152280" y="3123360"/>
            <a:chExt cx="8915400" cy="368280"/>
          </a:xfrm>
        </p:grpSpPr>
        <p:sp>
          <p:nvSpPr>
            <p:cNvPr id="253" name=""/>
            <p:cNvSpPr/>
            <p:nvPr/>
          </p:nvSpPr>
          <p:spPr>
            <a:xfrm>
              <a:off x="152280" y="3200400"/>
              <a:ext cx="8915400" cy="228600"/>
            </a:xfrm>
            <a:prstGeom prst="rect">
              <a:avLst/>
            </a:prstGeom>
            <a:solidFill>
              <a:srgbClr val="6f8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2720" y="312336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8466840" y="25902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9600" y="25902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4"/>
                </a:solidFill>
                <a:latin typeface="Arial"/>
              </a:rPr>
              <a:t>TAT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773920" y="23616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5'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28600" y="2286000"/>
            <a:ext cx="1523880" cy="990720"/>
            <a:chOff x="228600" y="2286000"/>
            <a:chExt cx="1523880" cy="990720"/>
          </a:xfrm>
        </p:grpSpPr>
        <p:sp>
          <p:nvSpPr>
            <p:cNvPr id="259" name=""/>
            <p:cNvSpPr/>
            <p:nvPr/>
          </p:nvSpPr>
          <p:spPr>
            <a:xfrm>
              <a:off x="228600" y="2286000"/>
              <a:ext cx="1523880" cy="9907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6040" y="2514960"/>
              <a:ext cx="1448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polymeras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526760" y="4281480"/>
            <a:ext cx="6842520" cy="1357920"/>
            <a:chOff x="1526760" y="4281480"/>
            <a:chExt cx="6842520" cy="1357920"/>
          </a:xfrm>
        </p:grpSpPr>
        <p:grpSp>
          <p:nvGrpSpPr>
            <p:cNvPr id="262" name=""/>
            <p:cNvGrpSpPr/>
            <p:nvPr/>
          </p:nvGrpSpPr>
          <p:grpSpPr>
            <a:xfrm>
              <a:off x="1526760" y="4281480"/>
              <a:ext cx="6702840" cy="1357920"/>
              <a:chOff x="1526760" y="4281480"/>
              <a:chExt cx="6702840" cy="135792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1600200" y="4281480"/>
                <a:ext cx="6629400" cy="1295280"/>
                <a:chOff x="1600200" y="4281480"/>
                <a:chExt cx="6629400" cy="129528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1600200" y="5348160"/>
                  <a:ext cx="6629400" cy="22860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4267080" y="4281480"/>
                  <a:ext cx="304920" cy="914400"/>
                </a:xfrm>
                <a:prstGeom prst="downArrow">
                  <a:avLst>
                    <a:gd name="adj1" fmla="val 50000"/>
                    <a:gd name="adj2" fmla="val 74970"/>
                  </a:avLst>
                </a:prstGeom>
                <a:solidFill>
                  <a:srgbClr val="ffea18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6" name=""/>
              <p:cNvSpPr/>
              <p:nvPr/>
            </p:nvSpPr>
            <p:spPr>
              <a:xfrm>
                <a:off x="1526760" y="527112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Arial"/>
                  </a:rPr>
                  <a:t>pre-mRNA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1530360" y="495180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5'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07120" y="495180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3'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516040" y="1431360"/>
            <a:ext cx="1349640" cy="1388160"/>
            <a:chOff x="2516040" y="1431360"/>
            <a:chExt cx="1349640" cy="1388160"/>
          </a:xfrm>
        </p:grpSpPr>
        <p:sp>
          <p:nvSpPr>
            <p:cNvPr id="270" name=""/>
            <p:cNvSpPr/>
            <p:nvPr/>
          </p:nvSpPr>
          <p:spPr>
            <a:xfrm>
              <a:off x="2590920" y="1600200"/>
              <a:ext cx="0" cy="121932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16040" y="1431360"/>
              <a:ext cx="1349640" cy="642600"/>
            </a:xfrm>
            <a:prstGeom prst="rect">
              <a:avLst/>
            </a:prstGeom>
            <a:solidFill>
              <a:srgbClr val="00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ranslatio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7621560" y="1431360"/>
            <a:ext cx="1349640" cy="1388160"/>
            <a:chOff x="7621560" y="1431360"/>
            <a:chExt cx="1349640" cy="1388160"/>
          </a:xfrm>
        </p:grpSpPr>
        <p:sp>
          <p:nvSpPr>
            <p:cNvPr id="273" name=""/>
            <p:cNvSpPr/>
            <p:nvPr/>
          </p:nvSpPr>
          <p:spPr>
            <a:xfrm>
              <a:off x="7696080" y="1600200"/>
              <a:ext cx="0" cy="121932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621560" y="1431360"/>
              <a:ext cx="1349640" cy="642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ranslatio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top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593440" y="5791320"/>
            <a:ext cx="4258440" cy="977760"/>
            <a:chOff x="2593440" y="5791320"/>
            <a:chExt cx="4258440" cy="977760"/>
          </a:xfrm>
        </p:grpSpPr>
        <p:grpSp>
          <p:nvGrpSpPr>
            <p:cNvPr id="276" name=""/>
            <p:cNvGrpSpPr/>
            <p:nvPr/>
          </p:nvGrpSpPr>
          <p:grpSpPr>
            <a:xfrm>
              <a:off x="2593440" y="5791320"/>
              <a:ext cx="4112280" cy="977760"/>
              <a:chOff x="2593440" y="5791320"/>
              <a:chExt cx="4112280" cy="977760"/>
            </a:xfrm>
          </p:grpSpPr>
          <p:grpSp>
            <p:nvGrpSpPr>
              <p:cNvPr id="277" name=""/>
              <p:cNvGrpSpPr/>
              <p:nvPr/>
            </p:nvGrpSpPr>
            <p:grpSpPr>
              <a:xfrm>
                <a:off x="2666880" y="5791320"/>
                <a:ext cx="4038840" cy="914400"/>
                <a:chOff x="2666880" y="5791320"/>
                <a:chExt cx="4038840" cy="91440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666880" y="6477120"/>
                  <a:ext cx="4038840" cy="22860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267080" y="5791320"/>
                  <a:ext cx="304920" cy="533160"/>
                </a:xfrm>
                <a:prstGeom prst="downArrow">
                  <a:avLst>
                    <a:gd name="adj1" fmla="val 50000"/>
                    <a:gd name="adj2" fmla="val 43713"/>
                  </a:avLst>
                </a:prstGeom>
                <a:solidFill>
                  <a:srgbClr val="ffea18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0" name=""/>
              <p:cNvSpPr/>
              <p:nvPr/>
            </p:nvSpPr>
            <p:spPr>
              <a:xfrm>
                <a:off x="2593440" y="6400800"/>
                <a:ext cx="1829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cc0000"/>
                    </a:solidFill>
                    <a:latin typeface="Arial"/>
                  </a:rPr>
                  <a:t>mature mRNA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2597040" y="6081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5'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489720" y="6081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3'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200400" y="5346720"/>
            <a:ext cx="4572000" cy="228600"/>
            <a:chOff x="3200400" y="5346720"/>
            <a:chExt cx="4572000" cy="228600"/>
          </a:xfrm>
        </p:grpSpPr>
        <p:sp>
          <p:nvSpPr>
            <p:cNvPr id="284" name=""/>
            <p:cNvSpPr/>
            <p:nvPr/>
          </p:nvSpPr>
          <p:spPr>
            <a:xfrm>
              <a:off x="3200400" y="5346720"/>
              <a:ext cx="457200" cy="228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038480" y="5346720"/>
              <a:ext cx="304920" cy="228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029200" y="5346720"/>
              <a:ext cx="304920" cy="228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638680" y="5346720"/>
              <a:ext cx="457200" cy="228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467480" y="5346720"/>
              <a:ext cx="304920" cy="228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5346720"/>
              <a:ext cx="457200" cy="228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209680" y="2819520"/>
            <a:ext cx="651960" cy="915120"/>
            <a:chOff x="2209680" y="2819520"/>
            <a:chExt cx="651960" cy="915120"/>
          </a:xfrm>
        </p:grpSpPr>
        <p:sp>
          <p:nvSpPr>
            <p:cNvPr id="291" name=""/>
            <p:cNvSpPr/>
            <p:nvPr/>
          </p:nvSpPr>
          <p:spPr>
            <a:xfrm>
              <a:off x="2209680" y="2819520"/>
              <a:ext cx="0" cy="9144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11480" y="3366360"/>
              <a:ext cx="650160" cy="368280"/>
            </a:xfrm>
            <a:prstGeom prst="rect">
              <a:avLst/>
            </a:prstGeom>
            <a:solidFill>
              <a:srgbClr val="0f11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UT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7425000" y="2819520"/>
            <a:ext cx="652320" cy="915120"/>
            <a:chOff x="7425000" y="2819520"/>
            <a:chExt cx="652320" cy="915120"/>
          </a:xfrm>
        </p:grpSpPr>
        <p:sp>
          <p:nvSpPr>
            <p:cNvPr id="294" name=""/>
            <p:cNvSpPr/>
            <p:nvPr/>
          </p:nvSpPr>
          <p:spPr>
            <a:xfrm>
              <a:off x="8077320" y="2819520"/>
              <a:ext cx="0" cy="9144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425000" y="3366360"/>
              <a:ext cx="650160" cy="368280"/>
            </a:xfrm>
            <a:prstGeom prst="rect">
              <a:avLst/>
            </a:prstGeom>
            <a:solidFill>
              <a:srgbClr val="0f11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UT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895480" y="1553040"/>
            <a:ext cx="4724280" cy="1266480"/>
            <a:chOff x="2895480" y="1553040"/>
            <a:chExt cx="4724280" cy="1266480"/>
          </a:xfrm>
        </p:grpSpPr>
        <p:grpSp>
          <p:nvGrpSpPr>
            <p:cNvPr id="297" name=""/>
            <p:cNvGrpSpPr/>
            <p:nvPr/>
          </p:nvGrpSpPr>
          <p:grpSpPr>
            <a:xfrm>
              <a:off x="2895480" y="1553040"/>
              <a:ext cx="4724280" cy="1190160"/>
              <a:chOff x="2895480" y="1553040"/>
              <a:chExt cx="4724280" cy="1190160"/>
            </a:xfrm>
          </p:grpSpPr>
          <p:sp>
            <p:nvSpPr>
              <p:cNvPr id="298" name=""/>
              <p:cNvSpPr/>
              <p:nvPr/>
            </p:nvSpPr>
            <p:spPr>
              <a:xfrm flipV="1">
                <a:off x="2895480" y="1905120"/>
                <a:ext cx="1981440" cy="761760"/>
              </a:xfrm>
              <a:prstGeom prst="line">
                <a:avLst/>
              </a:prstGeom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3657600" y="1980720"/>
                <a:ext cx="1295280" cy="685800"/>
              </a:xfrm>
              <a:prstGeom prst="line">
                <a:avLst/>
              </a:prstGeom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4495680" y="1980720"/>
                <a:ext cx="609840" cy="762120"/>
              </a:xfrm>
              <a:prstGeom prst="line">
                <a:avLst/>
              </a:prstGeom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 flipV="1">
                <a:off x="5257800" y="1905120"/>
                <a:ext cx="838080" cy="761760"/>
              </a:xfrm>
              <a:prstGeom prst="line">
                <a:avLst/>
              </a:prstGeom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flipV="1">
                <a:off x="5409720" y="1905120"/>
                <a:ext cx="1676520" cy="838080"/>
              </a:xfrm>
              <a:prstGeom prst="line">
                <a:avLst/>
              </a:prstGeom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 flipV="1">
                <a:off x="5562360" y="1905120"/>
                <a:ext cx="2057400" cy="761760"/>
              </a:xfrm>
              <a:prstGeom prst="line">
                <a:avLst/>
              </a:prstGeom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710240" y="1553040"/>
                <a:ext cx="988560" cy="429120"/>
              </a:xfrm>
              <a:prstGeom prst="rect">
                <a:avLst/>
              </a:prstGeom>
              <a:solidFill>
                <a:srgbClr val="404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exons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 flipV="1">
              <a:off x="5181480" y="1905120"/>
              <a:ext cx="0" cy="9144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74880" y="1371240"/>
            <a:ext cx="1250640" cy="534960"/>
            <a:chOff x="74880" y="1371240"/>
            <a:chExt cx="1250640" cy="534960"/>
          </a:xfrm>
        </p:grpSpPr>
        <p:sp>
          <p:nvSpPr>
            <p:cNvPr id="307" name=""/>
            <p:cNvSpPr/>
            <p:nvPr/>
          </p:nvSpPr>
          <p:spPr>
            <a:xfrm flipH="1">
              <a:off x="74520" y="1371240"/>
              <a:ext cx="1195560" cy="368280"/>
            </a:xfrm>
            <a:custGeom>
              <a:avLst/>
              <a:gdLst>
                <a:gd name="textAreaLeft" fmla="*/ -360 w 1195560"/>
                <a:gd name="textAreaRight" fmla="*/ 1195560 w 119556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enhance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9240" y="1599120"/>
              <a:ext cx="7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f116a"/>
                  </a:solidFill>
                  <a:latin typeface="Arial"/>
                </a:rPr>
                <a:t>1000</a:t>
              </a:r>
              <a:r>
                <a:rPr b="1" lang="en-US" sz="14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r>
                <a:rPr b="1" lang="en-US" sz="1400" spc="-1" strike="noStrike">
                  <a:solidFill>
                    <a:srgbClr val="0f116a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ACE8-9472-4B24-9888-C775D2FFD608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remove" presetClass="exit" presetID="7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139" dur="5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120" y="1371600"/>
            <a:ext cx="3505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0f11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de is redundant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625320" indent="-28548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ral codons for each amino acid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625320" indent="-28548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wobble” in the tRNA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625320" indent="-28548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wobble” in the aminoacyl-tRNA synthetase enzyme that loads the tRNA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87800" y="685800"/>
            <a:ext cx="5056200" cy="60958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440" y="685440"/>
            <a:ext cx="3962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Universal co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rcRect l="11250" t="3000" r="0" b="0"/>
          <a:stretch/>
        </p:blipFill>
        <p:spPr>
          <a:xfrm>
            <a:off x="228600" y="4172040"/>
            <a:ext cx="3276720" cy="2685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938A-02A1-4662-B7DB-E2F7EDE5F3E7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y Questions?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5C51-654E-420A-83DE-B8FE68A1A0ED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705720" y="6477120"/>
            <a:ext cx="1447560" cy="2286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09680" y="6477120"/>
            <a:ext cx="457200" cy="2286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164240" y="1751760"/>
            <a:ext cx="903240" cy="1067760"/>
            <a:chOff x="1164240" y="1751760"/>
            <a:chExt cx="903240" cy="1067760"/>
          </a:xfrm>
        </p:grpSpPr>
        <p:sp>
          <p:nvSpPr>
            <p:cNvPr id="315" name=""/>
            <p:cNvSpPr/>
            <p:nvPr/>
          </p:nvSpPr>
          <p:spPr>
            <a:xfrm>
              <a:off x="1403280" y="2057400"/>
              <a:ext cx="0" cy="76212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164240" y="175176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20-30b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82440" y="23616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3'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2120" y="2895480"/>
            <a:ext cx="0" cy="1143000"/>
          </a:xfrm>
          <a:prstGeom prst="line">
            <a:avLst/>
          </a:prstGeom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458200" y="2819520"/>
            <a:ext cx="0" cy="1218960"/>
          </a:xfrm>
          <a:prstGeom prst="line">
            <a:avLst/>
          </a:prstGeom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2819520"/>
            <a:ext cx="0" cy="1218960"/>
          </a:xfrm>
          <a:prstGeom prst="line">
            <a:avLst/>
          </a:prstGeom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24080" y="2819520"/>
            <a:ext cx="1752840" cy="761760"/>
          </a:xfrm>
          <a:prstGeom prst="line">
            <a:avLst/>
          </a:prstGeom>
          <a:ln w="1908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62520" y="2819520"/>
            <a:ext cx="990360" cy="685800"/>
          </a:xfrm>
          <a:prstGeom prst="line">
            <a:avLst/>
          </a:prstGeom>
          <a:ln w="1908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952880" y="2819520"/>
            <a:ext cx="152640" cy="685800"/>
          </a:xfrm>
          <a:prstGeom prst="line">
            <a:avLst/>
          </a:prstGeom>
          <a:ln w="1908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257440" y="2819520"/>
            <a:ext cx="304920" cy="761760"/>
          </a:xfrm>
          <a:prstGeom prst="line">
            <a:avLst/>
          </a:prstGeom>
          <a:ln w="1908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5409720" y="2819520"/>
            <a:ext cx="1143000" cy="761760"/>
          </a:xfrm>
          <a:prstGeom prst="line">
            <a:avLst/>
          </a:prstGeom>
          <a:ln w="1908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5562360" y="2819520"/>
            <a:ext cx="1904760" cy="761760"/>
          </a:xfrm>
          <a:prstGeom prst="line">
            <a:avLst/>
          </a:prstGeom>
          <a:ln w="1908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40040" y="3503880"/>
            <a:ext cx="1127160" cy="42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ron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2280" y="2666880"/>
            <a:ext cx="8915400" cy="2286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2666880"/>
            <a:ext cx="6629400" cy="228600"/>
          </a:xfrm>
          <a:prstGeom prst="rect">
            <a:avLst/>
          </a:prstGeom>
          <a:solidFill>
            <a:srgbClr val="404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 Transcriptional uni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2666880"/>
            <a:ext cx="609480" cy="228600"/>
          </a:xfrm>
          <a:prstGeom prst="rect">
            <a:avLst/>
          </a:prstGeom>
          <a:solidFill>
            <a:srgbClr val="97c6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229600" y="2666880"/>
            <a:ext cx="3049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00200" y="2666880"/>
            <a:ext cx="304920" cy="228600"/>
          </a:xfrm>
          <a:prstGeom prst="rect">
            <a:avLst/>
          </a:prstGeom>
          <a:solidFill>
            <a:srgbClr val="007f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971800" y="2666880"/>
            <a:ext cx="4572000" cy="228600"/>
            <a:chOff x="2971800" y="2666880"/>
            <a:chExt cx="4572000" cy="228600"/>
          </a:xfrm>
        </p:grpSpPr>
        <p:sp>
          <p:nvSpPr>
            <p:cNvPr id="335" name=""/>
            <p:cNvSpPr/>
            <p:nvPr/>
          </p:nvSpPr>
          <p:spPr>
            <a:xfrm>
              <a:off x="2971800" y="2666880"/>
              <a:ext cx="457200" cy="228600"/>
            </a:xfrm>
            <a:prstGeom prst="rect">
              <a:avLst/>
            </a:prstGeom>
            <a:solidFill>
              <a:srgbClr val="00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809880" y="2666880"/>
              <a:ext cx="304920" cy="228600"/>
            </a:xfrm>
            <a:prstGeom prst="rect">
              <a:avLst/>
            </a:prstGeom>
            <a:solidFill>
              <a:srgbClr val="00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800600" y="2666880"/>
              <a:ext cx="304920" cy="228600"/>
            </a:xfrm>
            <a:prstGeom prst="rect">
              <a:avLst/>
            </a:prstGeom>
            <a:solidFill>
              <a:srgbClr val="00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410080" y="2666880"/>
              <a:ext cx="457200" cy="228600"/>
            </a:xfrm>
            <a:prstGeom prst="rect">
              <a:avLst/>
            </a:prstGeom>
            <a:solidFill>
              <a:srgbClr val="00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238880" y="2666880"/>
              <a:ext cx="304920" cy="228600"/>
            </a:xfrm>
            <a:prstGeom prst="rect">
              <a:avLst/>
            </a:prstGeom>
            <a:solidFill>
              <a:srgbClr val="00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400800" y="2666880"/>
              <a:ext cx="457200" cy="228600"/>
            </a:xfrm>
            <a:prstGeom prst="rect">
              <a:avLst/>
            </a:prstGeom>
            <a:solidFill>
              <a:srgbClr val="00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2590920" y="2666880"/>
            <a:ext cx="152280" cy="228600"/>
          </a:xfrm>
          <a:prstGeom prst="rect">
            <a:avLst/>
          </a:prstGeom>
          <a:solidFill>
            <a:srgbClr val="00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696080" y="2666880"/>
            <a:ext cx="15264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4840" y="2208960"/>
            <a:ext cx="271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transcriptional unit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64120" y="23756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602"/>
                </a:solidFill>
                <a:latin typeface="Arial"/>
              </a:rPr>
              <a:t>TAC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69280" y="23756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AC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466840" y="25902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79600" y="25902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4"/>
                </a:solidFill>
                <a:latin typeface="Arial"/>
              </a:rPr>
              <a:t>TAT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773920" y="23616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5'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28600" y="2286000"/>
            <a:ext cx="1523880" cy="990720"/>
            <a:chOff x="228600" y="2286000"/>
            <a:chExt cx="1523880" cy="990720"/>
          </a:xfrm>
        </p:grpSpPr>
        <p:sp>
          <p:nvSpPr>
            <p:cNvPr id="350" name=""/>
            <p:cNvSpPr/>
            <p:nvPr/>
          </p:nvSpPr>
          <p:spPr>
            <a:xfrm>
              <a:off x="228600" y="2286000"/>
              <a:ext cx="1523880" cy="9907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66040" y="2514960"/>
              <a:ext cx="1448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polymeras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530360" y="4281480"/>
            <a:ext cx="6838920" cy="1357200"/>
            <a:chOff x="1530360" y="4281480"/>
            <a:chExt cx="6838920" cy="1357200"/>
          </a:xfrm>
        </p:grpSpPr>
        <p:grpSp>
          <p:nvGrpSpPr>
            <p:cNvPr id="353" name=""/>
            <p:cNvGrpSpPr/>
            <p:nvPr/>
          </p:nvGrpSpPr>
          <p:grpSpPr>
            <a:xfrm>
              <a:off x="1600200" y="4281480"/>
              <a:ext cx="6629400" cy="1357200"/>
              <a:chOff x="1600200" y="4281480"/>
              <a:chExt cx="6629400" cy="1357200"/>
            </a:xfrm>
          </p:grpSpPr>
          <p:grpSp>
            <p:nvGrpSpPr>
              <p:cNvPr id="354" name=""/>
              <p:cNvGrpSpPr/>
              <p:nvPr/>
            </p:nvGrpSpPr>
            <p:grpSpPr>
              <a:xfrm>
                <a:off x="1600200" y="4281480"/>
                <a:ext cx="6629400" cy="1295280"/>
                <a:chOff x="1600200" y="4281480"/>
                <a:chExt cx="6629400" cy="129528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1600200" y="5348160"/>
                  <a:ext cx="6629400" cy="22860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4267080" y="4281480"/>
                  <a:ext cx="304920" cy="914400"/>
                </a:xfrm>
                <a:prstGeom prst="downArrow">
                  <a:avLst>
                    <a:gd name="adj1" fmla="val 50000"/>
                    <a:gd name="adj2" fmla="val 74970"/>
                  </a:avLst>
                </a:prstGeom>
                <a:solidFill>
                  <a:srgbClr val="ffea18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7" name=""/>
              <p:cNvSpPr/>
              <p:nvPr/>
            </p:nvSpPr>
            <p:spPr>
              <a:xfrm>
                <a:off x="2089080" y="527184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1530360" y="495180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5'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007120" y="495180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3'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590920" y="1600200"/>
            <a:ext cx="0" cy="1219320"/>
          </a:xfrm>
          <a:prstGeom prst="line">
            <a:avLst/>
          </a:prstGeom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96080" y="1600200"/>
            <a:ext cx="0" cy="1219320"/>
          </a:xfrm>
          <a:prstGeom prst="line">
            <a:avLst/>
          </a:prstGeom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590920" y="5791320"/>
            <a:ext cx="4260960" cy="976320"/>
            <a:chOff x="2590920" y="5791320"/>
            <a:chExt cx="4260960" cy="976320"/>
          </a:xfrm>
        </p:grpSpPr>
        <p:grpSp>
          <p:nvGrpSpPr>
            <p:cNvPr id="363" name=""/>
            <p:cNvGrpSpPr/>
            <p:nvPr/>
          </p:nvGrpSpPr>
          <p:grpSpPr>
            <a:xfrm>
              <a:off x="2590920" y="5791320"/>
              <a:ext cx="4114800" cy="976320"/>
              <a:chOff x="2590920" y="5791320"/>
              <a:chExt cx="4114800" cy="976320"/>
            </a:xfrm>
          </p:grpSpPr>
          <p:grpSp>
            <p:nvGrpSpPr>
              <p:cNvPr id="364" name=""/>
              <p:cNvGrpSpPr/>
              <p:nvPr/>
            </p:nvGrpSpPr>
            <p:grpSpPr>
              <a:xfrm>
                <a:off x="2666880" y="5791320"/>
                <a:ext cx="4038840" cy="914400"/>
                <a:chOff x="2666880" y="5791320"/>
                <a:chExt cx="4038840" cy="91440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2666880" y="6477120"/>
                  <a:ext cx="4038840" cy="22860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267080" y="5791320"/>
                  <a:ext cx="304920" cy="533160"/>
                </a:xfrm>
                <a:prstGeom prst="downArrow">
                  <a:avLst>
                    <a:gd name="adj1" fmla="val 50000"/>
                    <a:gd name="adj2" fmla="val 43713"/>
                  </a:avLst>
                </a:prstGeom>
                <a:solidFill>
                  <a:srgbClr val="ffea18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7" name=""/>
              <p:cNvSpPr/>
              <p:nvPr/>
            </p:nvSpPr>
            <p:spPr>
              <a:xfrm>
                <a:off x="2590920" y="6400800"/>
                <a:ext cx="1839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2597040" y="6081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5'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489720" y="6081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3'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3200400" y="5346720"/>
            <a:ext cx="4572000" cy="228600"/>
            <a:chOff x="3200400" y="5346720"/>
            <a:chExt cx="4572000" cy="228600"/>
          </a:xfrm>
        </p:grpSpPr>
        <p:sp>
          <p:nvSpPr>
            <p:cNvPr id="371" name=""/>
            <p:cNvSpPr/>
            <p:nvPr/>
          </p:nvSpPr>
          <p:spPr>
            <a:xfrm>
              <a:off x="3200400" y="5346720"/>
              <a:ext cx="457200" cy="228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38480" y="5346720"/>
              <a:ext cx="304920" cy="228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029200" y="5346720"/>
              <a:ext cx="304920" cy="228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38680" y="5346720"/>
              <a:ext cx="457200" cy="228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467480" y="5346720"/>
              <a:ext cx="304920" cy="228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629400" y="5346720"/>
              <a:ext cx="457200" cy="228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209680" y="2819520"/>
            <a:ext cx="0" cy="914400"/>
          </a:xfrm>
          <a:prstGeom prst="line">
            <a:avLst/>
          </a:prstGeom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077320" y="2819520"/>
            <a:ext cx="0" cy="914400"/>
          </a:xfrm>
          <a:prstGeom prst="line">
            <a:avLst/>
          </a:prstGeom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2895480" y="1905120"/>
            <a:ext cx="1981440" cy="761760"/>
          </a:xfrm>
          <a:prstGeom prst="line">
            <a:avLst/>
          </a:prstGeom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657600" y="1980720"/>
            <a:ext cx="1295280" cy="685800"/>
          </a:xfrm>
          <a:prstGeom prst="line">
            <a:avLst/>
          </a:prstGeom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495680" y="1980720"/>
            <a:ext cx="609840" cy="762120"/>
          </a:xfrm>
          <a:prstGeom prst="line">
            <a:avLst/>
          </a:prstGeom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5257800" y="1905120"/>
            <a:ext cx="838080" cy="761760"/>
          </a:xfrm>
          <a:prstGeom prst="line">
            <a:avLst/>
          </a:prstGeom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5409720" y="1905120"/>
            <a:ext cx="1676520" cy="838080"/>
          </a:xfrm>
          <a:prstGeom prst="line">
            <a:avLst/>
          </a:prstGeom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5562360" y="1905120"/>
            <a:ext cx="2057400" cy="761760"/>
          </a:xfrm>
          <a:prstGeom prst="line">
            <a:avLst/>
          </a:prstGeom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10240" y="1553040"/>
            <a:ext cx="988560" cy="42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xon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181480" y="1905120"/>
            <a:ext cx="0" cy="914400"/>
          </a:xfrm>
          <a:prstGeom prst="line">
            <a:avLst/>
          </a:prstGeom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74880" y="1371240"/>
            <a:ext cx="1250640" cy="534960"/>
            <a:chOff x="74880" y="1371240"/>
            <a:chExt cx="1250640" cy="534960"/>
          </a:xfrm>
        </p:grpSpPr>
        <p:sp>
          <p:nvSpPr>
            <p:cNvPr id="388" name=""/>
            <p:cNvSpPr/>
            <p:nvPr/>
          </p:nvSpPr>
          <p:spPr>
            <a:xfrm flipH="1">
              <a:off x="74520" y="1371240"/>
              <a:ext cx="1195560" cy="368280"/>
            </a:xfrm>
            <a:custGeom>
              <a:avLst/>
              <a:gdLst>
                <a:gd name="textAreaLeft" fmla="*/ -360 w 1195560"/>
                <a:gd name="textAreaRight" fmla="*/ 1195560 w 119556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enhance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79240" y="1599120"/>
              <a:ext cx="7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f116a"/>
                  </a:solidFill>
                  <a:latin typeface="Arial"/>
                </a:rPr>
                <a:t>1000</a:t>
              </a:r>
              <a:r>
                <a:rPr b="1" lang="en-US" sz="14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r>
                <a:rPr b="1" lang="en-US" sz="1400" spc="-1" strike="noStrike">
                  <a:solidFill>
                    <a:srgbClr val="0f116a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6FFA-0D9C-47DC-A65B-D2C43306E45C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remove" presetClass="exit" presetID="7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248" dur="5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0" t="0" r="3547" b="3357"/>
          <a:stretch/>
        </p:blipFill>
        <p:spPr>
          <a:xfrm>
            <a:off x="4848120" y="990720"/>
            <a:ext cx="4219560" cy="57132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utation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4160" y="5942520"/>
            <a:ext cx="4470120" cy="76428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When do mutations affect the next generation?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oint mutati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ingle base chang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ase-pair substitut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ilent mutat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no amino acid chang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redundancy in cod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issens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change amino acid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onsens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change to stop codo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1C73-2532-4CB8-8003-BC4F2FFD18CF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Point mutation leads to Sickle cell anemia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0" r="0" b="4048"/>
          <a:stretch/>
        </p:blipFill>
        <p:spPr>
          <a:xfrm>
            <a:off x="1066680" y="1882800"/>
            <a:ext cx="7174080" cy="45943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3886200" cy="4572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at kind of mutation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FC57-0578-48E8-811F-21DC7C98228D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ickle cell anemi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0" r="0" b="4542"/>
          <a:stretch/>
        </p:blipFill>
        <p:spPr>
          <a:xfrm>
            <a:off x="762120" y="1511280"/>
            <a:ext cx="8235720" cy="4356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64E2-6C2E-4F2B-83CA-510E1A65514F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utation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3597"/>
          <a:stretch/>
        </p:blipFill>
        <p:spPr>
          <a:xfrm>
            <a:off x="4776840" y="380880"/>
            <a:ext cx="4367160" cy="6477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rameshift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hift in the reading fra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hanges everything “downstream”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sert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dding base(s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elet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osing base(s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25EC-E239-4389-B4CA-A98A280E0146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52480" y="3200400"/>
            <a:ext cx="1917720" cy="2654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648320" y="1905120"/>
            <a:ext cx="3809880" cy="2590560"/>
          </a:xfrm>
          <a:prstGeom prst="wedgeEllipseCallout">
            <a:avLst>
              <a:gd name="adj1" fmla="val -80416"/>
              <a:gd name="adj2" fmla="val 4491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What’s the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value of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mutations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1520-29F3-4D3F-B5DE-F7DFA7D6522C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hapter  17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89880" y="3276360"/>
            <a:ext cx="264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NA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rocessing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79204" b="15894"/>
          <a:stretch/>
        </p:blipFill>
        <p:spPr>
          <a:xfrm>
            <a:off x="7121520" y="685800"/>
            <a:ext cx="1031760" cy="23623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C5FE-5CE5-47A5-934A-1F31C8353F5D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ranscription -- another look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e process of transcription includes many points of contro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hen to start reading DNA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here to start reading DNA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here to stop reading DNA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diting the mRNA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tecting mRNA as it travels through cel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A91C-79D4-430D-8FD2-17E39D91B179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01:44:59Z</dcterms:created>
  <dc:creator>Justin</dc:creator>
  <dc:description>All Rights Reserved. Copyright 2003. WD Interactive.</dc:description>
  <cp:keywords>Education Biology Zone Kim Foglia</cp:keywords>
  <dc:language>en-US</dc:language>
  <cp:lastModifiedBy> </cp:lastModifiedBy>
  <cp:lastPrinted>2006-03-06T02:21:26Z</cp:lastPrinted>
  <dcterms:modified xsi:type="dcterms:W3CDTF">2007-01-01T21:58:05Z</dcterms:modified>
  <cp:revision>150</cp:revision>
  <dc:subject>AP &amp; Regents Biology</dc:subject>
  <dc:title>Chapter  17.</dc:title>
</cp:coreProperties>
</file>